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15D2-89DA-4094-8CF5-E888E62F7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0712-1E64-4DB1-87CF-0E11C504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D1B2-CC44-461B-9857-DD58F1193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6BA8-31A7-4AA7-B436-DF5988A6B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0E15-8754-44FB-9392-AE94732E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46F0-6D6A-4CAA-A970-1F19FB7A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F811-220D-41C3-B707-BE411428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DD84-3A52-44AB-B423-8309AABA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33EA-7F5D-4603-9EC7-CDE54917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C7F4-5F09-4B47-ABF4-A789902F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1C47-494A-4E96-82C1-D8A408C1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A827-D43F-42E8-A6E8-875F5B41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ADA0-AB63-4983-A62B-442EBE7E7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29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28760" y="1974960"/>
            <a:ext cx="4686480" cy="2914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8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0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2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3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4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5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6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0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1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3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31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4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5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6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7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8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9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30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01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02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3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1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04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05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29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29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29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2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28760" y="1965240"/>
            <a:ext cx="4686480" cy="2933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3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4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5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6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28760" y="1974960"/>
            <a:ext cx="4686480" cy="2914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7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22:25:37Z</dcterms:created>
  <dc:creator>Mark S. Spencer</dc:creator>
  <dc:description/>
  <dc:language>en-US</dc:language>
  <cp:lastModifiedBy>Mark S. Spencer</cp:lastModifiedBy>
  <dcterms:modified xsi:type="dcterms:W3CDTF">2008-12-06T16:20:46Z</dcterms:modified>
  <cp:revision>20</cp:revision>
  <dc:subject/>
  <dc:title>Slide 1</dc:title>
</cp:coreProperties>
</file>